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572-8D4B-4009-9B4F-7D9A2177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BEB-430A-4B1C-893F-1C8088B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51A-656D-4248-89A7-4E43A6A3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ABB-0F9D-4033-A216-B2266E29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ADB-DD08-4F66-95CC-314B81DC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C3E-FD8C-4EF0-AA3A-549FFB85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27B-8728-488B-B40E-AF1610AD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8F1-6EFB-4217-A317-AD69A1A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62E-D867-46D8-B4EA-9C4EC59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F35-A4DE-406A-A669-FD4BF61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B93-30CE-4741-B6FB-468E638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108-3CFE-407B-B601-42E4A59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E68-57B2-482D-B2C9-79CAB6A3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3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52280" y="965160"/>
            <a:ext cx="2446560" cy="244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192640" y="1214280"/>
            <a:ext cx="1778040" cy="177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rcRect l="0" t="20818" r="0" b="8614"/>
          <a:stretch/>
        </p:blipFill>
        <p:spPr>
          <a:xfrm>
            <a:off x="2809800" y="1405080"/>
            <a:ext cx="2133720" cy="143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2"/>
          <p:cNvSpPr/>
          <p:nvPr/>
        </p:nvSpPr>
        <p:spPr>
          <a:xfrm>
            <a:off x="363600" y="2862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2771640" y="28623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4954680" y="2862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but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40" y="4954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tele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997680" y="2968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920" y="631656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ocador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185760" y="3381480"/>
            <a:ext cx="183204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rcRect l="23935" t="-5438" r="22339" b="5454"/>
          <a:stretch/>
        </p:blipFill>
        <p:spPr>
          <a:xfrm>
            <a:off x="7632720" y="685800"/>
            <a:ext cx="941400" cy="195120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25"/>
          <p:cNvCxnSpPr/>
          <p:nvPr/>
        </p:nvCxnSpPr>
        <p:spPr>
          <a:xfrm>
            <a:off x="8102160" y="1960560"/>
            <a:ext cx="108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2" name="Picture 6" descr=""/>
          <p:cNvPicPr/>
          <p:nvPr/>
        </p:nvPicPr>
        <p:blipFill>
          <a:blip r:embed="rId6"/>
          <a:stretch/>
        </p:blipFill>
        <p:spPr>
          <a:xfrm>
            <a:off x="46080" y="5477040"/>
            <a:ext cx="2330280" cy="69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6680" y="685800"/>
            <a:ext cx="242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b050"/>
                </a:solidFill>
                <a:latin typeface="Arial"/>
              </a:rPr>
              <a:t>En la sala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7"/>
          <a:stretch/>
        </p:blipFill>
        <p:spPr>
          <a:xfrm>
            <a:off x="2567160" y="3441600"/>
            <a:ext cx="200952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53840" y="521496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ns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8"/>
          <a:stretch/>
        </p:blipFill>
        <p:spPr>
          <a:xfrm>
            <a:off x="5337000" y="3441600"/>
            <a:ext cx="2765520" cy="2765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5862960" y="58672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dormitorio/ la rec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á</a:t>
            </a: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mar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2133360" cy="172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3760" y="262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991920" y="267012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có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331920" y="3408480"/>
            <a:ext cx="1725480" cy="2493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420840" y="579132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r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rcRect l="19590" t="0" r="17950" b="4635"/>
          <a:stretch/>
        </p:blipFill>
        <p:spPr>
          <a:xfrm>
            <a:off x="2465280" y="3527280"/>
            <a:ext cx="1233720" cy="2079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2457360" y="56386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esp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4308480" y="3591000"/>
            <a:ext cx="1747800" cy="1892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4406760" y="560700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pelu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5"/>
          <a:srcRect l="5974" t="40639" r="5699" b="8792"/>
          <a:stretch/>
        </p:blipFill>
        <p:spPr>
          <a:xfrm>
            <a:off x="6588000" y="1246320"/>
            <a:ext cx="2024280" cy="137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6"/>
          <a:stretch/>
        </p:blipFill>
        <p:spPr>
          <a:xfrm>
            <a:off x="2666880" y="1170000"/>
            <a:ext cx="121932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7"/>
          <a:stretch/>
        </p:blipFill>
        <p:spPr>
          <a:xfrm>
            <a:off x="4578480" y="1187280"/>
            <a:ext cx="98244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1"/>
          <p:cNvSpPr/>
          <p:nvPr/>
        </p:nvSpPr>
        <p:spPr>
          <a:xfrm>
            <a:off x="4546080" y="237636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lám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216880" y="2593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mesa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8"/>
          <a:stretch/>
        </p:blipFill>
        <p:spPr>
          <a:xfrm>
            <a:off x="7696080" y="3657600"/>
            <a:ext cx="1074960" cy="13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"/>
          <p:cNvPicPr/>
          <p:nvPr/>
        </p:nvPicPr>
        <p:blipFill>
          <a:blip r:embed="rId9"/>
          <a:stretch/>
        </p:blipFill>
        <p:spPr>
          <a:xfrm>
            <a:off x="6934320" y="3886200"/>
            <a:ext cx="8157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"/>
          <p:cNvPicPr/>
          <p:nvPr/>
        </p:nvPicPr>
        <p:blipFill>
          <a:blip r:embed="rId10"/>
          <a:stretch/>
        </p:blipFill>
        <p:spPr>
          <a:xfrm>
            <a:off x="7696080" y="4876920"/>
            <a:ext cx="866880" cy="131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"/>
          <p:cNvPicPr/>
          <p:nvPr/>
        </p:nvPicPr>
        <p:blipFill>
          <a:blip r:embed="rId11"/>
          <a:stretch/>
        </p:blipFill>
        <p:spPr>
          <a:xfrm>
            <a:off x="7010280" y="4952880"/>
            <a:ext cx="72720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8"/>
          <p:cNvSpPr/>
          <p:nvPr/>
        </p:nvSpPr>
        <p:spPr>
          <a:xfrm>
            <a:off x="7216560" y="6338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af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La coc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13216" t="5048" r="15969" b="4469"/>
          <a:stretch/>
        </p:blipFill>
        <p:spPr>
          <a:xfrm>
            <a:off x="155520" y="1430280"/>
            <a:ext cx="2076480" cy="340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05200" y="5105520"/>
            <a:ext cx="24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nev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refriger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39920" y="2527200"/>
            <a:ext cx="2171880" cy="2313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064680" y="490536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7361280" y="2224080"/>
            <a:ext cx="1746360" cy="1973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7676640" y="43434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4965840" y="4168800"/>
            <a:ext cx="1663560" cy="2079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4384800" y="6164280"/>
            <a:ext cx="278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El cesto </a:t>
            </a:r>
            <a:r>
              <a:rPr b="0" i="1" lang="es-ES" sz="2200" spc="-1" strike="noStrike">
                <a:solidFill>
                  <a:srgbClr val="000000"/>
                </a:solidFill>
                <a:latin typeface="Comic Sans MS"/>
              </a:rPr>
              <a:t>(tacho)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la bas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5" descr=""/>
          <p:cNvPicPr/>
          <p:nvPr/>
        </p:nvPicPr>
        <p:blipFill>
          <a:blip r:embed="rId5"/>
          <a:stretch/>
        </p:blipFill>
        <p:spPr>
          <a:xfrm>
            <a:off x="4513320" y="1430280"/>
            <a:ext cx="2649600" cy="1940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6"/>
          <p:cNvSpPr/>
          <p:nvPr/>
        </p:nvSpPr>
        <p:spPr>
          <a:xfrm>
            <a:off x="4825800" y="3429000"/>
            <a:ext cx="181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El lava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comed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8600" y="1065240"/>
            <a:ext cx="2470320" cy="196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308600" y="25909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429000" y="1087560"/>
            <a:ext cx="1731960" cy="1731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639960" y="279072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s s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3"/>
          <a:srcRect l="13248" t="12084" r="13248" b="14199"/>
          <a:stretch/>
        </p:blipFill>
        <p:spPr>
          <a:xfrm>
            <a:off x="5910120" y="152280"/>
            <a:ext cx="2362320" cy="2368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6436800" y="2438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ch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8088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El ba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ñ</a:t>
            </a:r>
            <a:r>
              <a:rPr b="1" lang="es-ES" sz="4400" spc="-1" strike="noStrike">
                <a:solidFill>
                  <a:srgbClr val="00b050"/>
                </a:solidFill>
                <a:latin typeface="Arial"/>
              </a:rPr>
              <a:t>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4"/>
          <a:srcRect l="14005" t="0" r="0" b="0"/>
          <a:stretch/>
        </p:blipFill>
        <p:spPr>
          <a:xfrm>
            <a:off x="279360" y="4114800"/>
            <a:ext cx="1766880" cy="2238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45240" y="640080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du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5"/>
          <a:srcRect l="0" t="19320" r="0" b="5689"/>
          <a:stretch/>
        </p:blipFill>
        <p:spPr>
          <a:xfrm>
            <a:off x="2252520" y="5219640"/>
            <a:ext cx="2210040" cy="1324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493720" y="4265640"/>
            <a:ext cx="18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b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 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6"/>
          <a:stretch/>
        </p:blipFill>
        <p:spPr>
          <a:xfrm>
            <a:off x="4724280" y="4976640"/>
            <a:ext cx="1363680" cy="1810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293360" y="4503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lava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7"/>
          <a:srcRect l="7946" t="3036" r="16376" b="0"/>
          <a:stretch/>
        </p:blipFill>
        <p:spPr>
          <a:xfrm>
            <a:off x="7064280" y="3117960"/>
            <a:ext cx="160200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7107120" y="5303880"/>
            <a:ext cx="17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ret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21333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800000"/>
                </a:solidFill>
                <a:latin typeface="Arial"/>
              </a:rPr>
              <a:t>El Tec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09920" y="54100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El Sót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ouse_with floors"/>
          <p:cNvPicPr/>
          <p:nvPr/>
        </p:nvPicPr>
        <p:blipFill>
          <a:blip r:embed="rId1"/>
          <a:stretch/>
        </p:blipFill>
        <p:spPr>
          <a:xfrm>
            <a:off x="2438280" y="1981080"/>
            <a:ext cx="4362480" cy="425772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 flipH="1" flipV="1">
            <a:off x="6362640" y="5697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320040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4197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Comic Sans MS"/>
              </a:rPr>
              <a:t>El 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9343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Ter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866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Azo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4674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6553080" y="25905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6629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0948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Comic Sans MS"/>
              </a:rPr>
              <a:t>Más 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9528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133720" y="1752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6858000" y="595800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981760" y="1927080"/>
            <a:ext cx="7239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5638680" y="1738080"/>
            <a:ext cx="99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00800" y="110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62940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alb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78168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ANISH, write a paragraph about describing your house or apartment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 sentence MINIMU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live in a building or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lo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iso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liv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flo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a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urniture/ appliances you have in your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5:39:07Z</cp:lastPrinted>
  <dcterms:modified xsi:type="dcterms:W3CDTF">2015-10-15T15:38:12Z</dcterms:modified>
  <cp:revision>34</cp:revision>
  <dc:subject/>
  <dc:title>Me llamo _________ Clase 6 nh/il La fecha es el 10 de marzo del 2011</dc:title>
</cp:coreProperties>
</file>